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86C8-5726-48C7-937E-455C3DFB1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0C04-CA22-44AD-B643-9831425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6030-AEA2-4D65-A0F8-6A61C0D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2B10-E75E-47CE-B12F-02D3BFDDE2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BB4E-7EBF-4974-AB0A-37635B0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3879-0137-4840-8BF2-FD49BB9B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A3AF-9FD4-47DF-BF87-F081BD0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5DBF-CE5E-4F93-834D-8A5421BE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47D5-613F-4C1A-B6F6-21466502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4129-B873-4401-9AF5-B0BA5E8F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7BB1-FDC9-4CE3-8759-30FCE5E7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5D12-71A7-4FEB-B31A-B4EC3F63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FA7D0-0D26-4878-B1E9-6B78FD334CE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98520" y="1650960"/>
            <a:ext cx="8602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Empréstimo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Consignado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503280" y="1440000"/>
            <a:ext cx="842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91966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Permitida para titulares de aposentadorias e pensões por morte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- É proibida a consignação das modalidades de crédito financiamento e arrendamento mercantil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- A contratação de empréstimo e cartão de crédito somente poderá ser efetivada no Estado em que o beneficiário tem seu benefício mantido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- É proibida a utilização do cartão de crédito para saque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- O empréstimo será realizado com instituição financeira que tenha celebrado convênio com o INSS/Empresa de Tecnologia e Informações da Previdência Social - Dataprev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1280" y="571680"/>
            <a:ext cx="90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Regras Gera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3280" y="1295280"/>
            <a:ext cx="842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91966"/>
                </a:solidFill>
                <a:latin typeface="Arial"/>
                <a:ea typeface="Arial"/>
              </a:rPr>
              <a:t>- Os descontos para pagamento de empréstimos e cartão de crédito não poderão exceder o limite de 30% (trinta por cento) do valor da renda mensal do benefício, da seguinte forma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91966"/>
                </a:solidFill>
                <a:latin typeface="Arial"/>
                <a:ea typeface="Arial"/>
              </a:rPr>
              <a:t>- Até 20% (vinte por cento) para as operações de empréstimo pessoal;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91966"/>
                </a:solidFill>
                <a:latin typeface="Arial"/>
                <a:ea typeface="Arial"/>
              </a:rPr>
              <a:t>-  10% (dez por cento) para as operações de cartão de crédito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1280" y="571680"/>
            <a:ext cx="90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Margem Consigná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03280" y="1830240"/>
            <a:ext cx="8423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1280" y="571680"/>
            <a:ext cx="90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Série Histórica – Qtde. Operaçõ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Table 76" descr=""/>
          <p:cNvPicPr/>
          <p:nvPr/>
        </p:nvPicPr>
        <p:blipFill>
          <a:blip r:embed="rId3"/>
          <a:stretch/>
        </p:blipFill>
        <p:spPr>
          <a:xfrm>
            <a:off x="353880" y="1189080"/>
            <a:ext cx="81504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03280" y="1830240"/>
            <a:ext cx="8423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1280" y="571680"/>
            <a:ext cx="90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Série Histórica – Volume de Negóci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able 1" descr=""/>
          <p:cNvPicPr/>
          <p:nvPr/>
        </p:nvPicPr>
        <p:blipFill>
          <a:blip r:embed="rId3"/>
          <a:stretch/>
        </p:blipFill>
        <p:spPr>
          <a:xfrm>
            <a:off x="353880" y="1243080"/>
            <a:ext cx="8223480" cy="53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503280" y="1368360"/>
            <a:ext cx="8423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1280" y="792000"/>
            <a:ext cx="90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Quantitativo atual - Ativo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Table 1" descr=""/>
          <p:cNvPicPr/>
          <p:nvPr/>
        </p:nvPicPr>
        <p:blipFill>
          <a:blip r:embed="rId3"/>
          <a:stretch/>
        </p:blipFill>
        <p:spPr>
          <a:xfrm>
            <a:off x="493560" y="1895400"/>
            <a:ext cx="8296560" cy="17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85840" y="1071720"/>
            <a:ext cx="85723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Vladimir Gobbi Júni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Coordenador Geral de Gerenciamento do Pagamento de Benefício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6Z</dcterms:created>
  <dc:creator>inss</dc:creator>
  <dc:description/>
  <dc:language>en-US</dc:language>
  <cp:lastModifiedBy>Silvana do Socorro Machado Rodrigues - MPS</cp:lastModifiedBy>
  <dcterms:modified xsi:type="dcterms:W3CDTF">2015-07-22T13:07:45Z</dcterms:modified>
  <cp:revision>20</cp:revision>
  <dc:subject/>
  <dc:title>Slide 1</dc:title>
</cp:coreProperties>
</file>